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39C-536A-4B5D-8468-7E56F626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7EEE-2247-4C6B-BB38-67147B42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F940-E9F0-4CA0-8A7C-581F52F4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5BB-195B-4244-A429-80D707E4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032-763F-44A9-A82B-2AF1D311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67AA-16E6-4A97-8664-20D27194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6222-1850-43AF-90A0-120A35EE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899A-AA56-4B17-A70F-FD873A28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BE04-A02F-4A34-BB8D-949F9BC0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6622-B873-4F6D-BD1C-0ED47756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C401-5AEE-4747-94C0-6209CD79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1F8-760F-4482-8D0C-8EB68C19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2A93-398C-453C-BF27-20F23D3AD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out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29630" t="43777" r="0" b="9086"/>
          <a:stretch/>
        </p:blipFill>
        <p:spPr>
          <a:xfrm>
            <a:off x="457200" y="1676520"/>
            <a:ext cx="8305920" cy="3060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5638680"/>
            <a:ext cx="723888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ing directions to Korean International School of Hong K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 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bo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77120" y="4952880"/>
            <a:ext cx="1295280" cy="1676520"/>
          </a:xfrm>
          <a:prstGeom prst="upArrow">
            <a:avLst>
              <a:gd name="adj1" fmla="val 50000"/>
              <a:gd name="adj2" fmla="val 3235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5:01:11Z</dcterms:created>
  <dc:creator>student305</dc:creator>
  <dc:description/>
  <dc:language>en-US</dc:language>
  <cp:lastModifiedBy>student305</cp:lastModifiedBy>
  <dcterms:modified xsi:type="dcterms:W3CDTF">2010-03-23T05:21:36Z</dcterms:modified>
  <cp:revision>8</cp:revision>
  <dc:subject/>
  <dc:title>Slide 1</dc:title>
</cp:coreProperties>
</file>